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323-54B4-41C3-9E2E-5FCDE29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95B-5703-431C-BAEE-FAFC4F93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B16-69D1-4C2F-A2AE-C88D0B06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D3F-283A-4926-8CD6-188D595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5D9-3199-4C50-A432-AD7284E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93C-C917-42E7-99F2-D7AF0E77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06A-FABF-4A05-987B-73F75CD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014-D135-4D83-9E36-5DA3DFE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EB0-1B72-4A4F-8619-F1F7071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24A-FF3A-4341-8B45-4F091268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F27-DA80-486F-8CB1-F9EF843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E3E-CEB0-458E-9B3A-B2B32A5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079-001E-4D03-A650-0A295D0F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LAlcor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5/Kkk-carpetbagger-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wa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as a name given to southerners who didn’t support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operated with the slaves to rebuild the Sou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t “scoundrel” or “worthless rasc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came about: southerners thought scalawags were bad people for not supporting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ere already in the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non slave holding farmers or busin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James L. Alco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845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172200"/>
            <a:ext cx="29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James_L._Al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6172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L. Alcorn (a scalaw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petbagg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-Carpetbaggers is a derogatory term that was given to northerners who traveled to the south for any reason. Although it was an insult some of them were really interested in helping the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name came about: The name came from the carpet bags that they used to carry their poss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were found by the Ku Klux Klan they were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petbaggers were greedy; they came to the south for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Kkk-carpetbagger-carto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62485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File:Kkk-carpetbagger-carto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by, Joyce et. al. (2003). The American Republic to 1877. New York: Glencoe/McGraw-H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Highways, Retrieved May 8, 2009, from Scalawags and Carpetbaggers Web site: http://www.u-s-history.com/pages/h24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8:04Z</dcterms:created>
  <dc:creator>cfisd</dc:creator>
  <dc:description/>
  <dc:language>en-US</dc:language>
  <cp:lastModifiedBy>cfisd</cp:lastModifiedBy>
  <dcterms:modified xsi:type="dcterms:W3CDTF">2009-05-08T18:56:25Z</dcterms:modified>
  <cp:revision>8</cp:revision>
  <dc:subject/>
  <dc:title>Slide 1</dc:title>
</cp:coreProperties>
</file>